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3CD-D7F2-4033-BBD0-E7624AA2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98C-1799-4318-850C-E489BC6C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D25-09F4-48A4-A4CB-D42EAC61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8F6-900D-446D-9CF3-DFE6A197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F782-3F48-4E22-B56A-501E017B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4EA5-459F-4D64-B576-C30EBFFE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8193-CFF2-4189-8208-8DFB56DA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6F4F-6004-4614-9EAE-2A1983F0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C56C-BAB8-486E-8E08-CBB9E922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2BE6-09FF-4C24-9523-165CDD5D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50E1-B879-479B-9B2E-2D55196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B42-DE8D-4AAC-9DC0-84549267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81A2-168B-4191-AD76-2BCF9CA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70D8-97E4-4E74-961B-85D2FCF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F360-A938-4B42-8E4E-858F858B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7FD8-2D09-4664-B0E2-39023CD4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EDFD-0731-469F-9B09-CB76AEEF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E43-4C0E-467E-9A72-1FB96680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A5B-EAD3-4C40-9DD5-93CAD2DF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096-FC06-486A-8561-C36C2DA8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678-28F3-416D-B7BC-E5EAB4BC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4BD-F8E7-47F2-9B28-B46AE1D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F90-9976-48A8-B91B-D95F8C77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035-1BF9-404F-B92D-C85F73D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D013-E647-489D-9C76-1F666B019D69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B3E3-9F26-4C98-B2DE-D708ED3511CA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167616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66"/>
                </a:solidFill>
                <a:latin typeface="標楷體"/>
                <a:ea typeface="標楷體"/>
              </a:rPr>
              <a:t>都是微軟惹的禍？</a:t>
            </a:r>
            <a:br>
              <a:rPr sz="4800"/>
            </a:b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--- </a:t>
            </a: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淺談 </a:t>
            </a: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Linux </a:t>
            </a: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與 </a:t>
            </a: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Windows </a:t>
            </a:r>
            <a:r>
              <a:rPr b="0" lang="zh-TW" sz="3200" spc="-1" strike="noStrike">
                <a:solidFill>
                  <a:srgbClr val="ffcc66"/>
                </a:solidFill>
                <a:latin typeface="標楷體"/>
                <a:ea typeface="標楷體"/>
              </a:rPr>
              <a:t>的比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Kenny Ch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Courier New"/>
              </a:rPr>
              <a:t>netman@study-area.or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把握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時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391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誰是世界首富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十字路口的選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您的技術十年後還能用嗎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擺脫控制、掌握主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門檻就是保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此時不參一腳更待何時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190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一：記憶曲線的阻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記憶物件對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時間的重要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信息量的影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linux_study01" descr=""/>
          <p:cNvPicPr/>
          <p:nvPr/>
        </p:nvPicPr>
        <p:blipFill>
          <a:blip r:embed="rId1"/>
          <a:stretch/>
        </p:blipFill>
        <p:spPr>
          <a:xfrm>
            <a:off x="4191120" y="2314440"/>
            <a:ext cx="480060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二：學習曲線差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門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成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期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linux_study02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52848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學習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難點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三：舊有包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袱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的阻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誤解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習慣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惰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職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利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結論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  <a:ea typeface="標楷體"/>
              </a:rPr>
              <a:t>:</a:t>
            </a:r>
            <a:br>
              <a:rPr sz="4400"/>
            </a:br>
            <a:r>
              <a:rPr b="0" lang="zh-TW" sz="3200" spc="-1" strike="noStrike">
                <a:solidFill>
                  <a:srgbClr val="ffcc66"/>
                </a:solidFill>
                <a:latin typeface="Times New Roman"/>
              </a:rPr>
              <a:t>明日的天下必定是 </a:t>
            </a:r>
            <a:r>
              <a:rPr b="0" lang="zh-TW" sz="3200" spc="-1" strike="noStrike">
                <a:solidFill>
                  <a:srgbClr val="ffcc66"/>
                </a:solidFill>
                <a:latin typeface="Times New Roman"/>
              </a:rPr>
              <a:t>Linux </a:t>
            </a:r>
            <a:r>
              <a:rPr b="0" lang="zh-TW" sz="3200" spc="-1" strike="noStrike">
                <a:solidFill>
                  <a:srgbClr val="ffcc66"/>
                </a:solidFill>
                <a:latin typeface="Times New Roman"/>
              </a:rPr>
              <a:t>的天下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從歷史看未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開放必勝、封閉必敗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英雄造時勢、時勢造英雄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拋棄舊包袱，迎接新挑戰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工若善其用，必先利其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謝謝﹗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5105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善用 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Linux﹐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可塑造出無限的空間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linux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12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主題大綱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必先利其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自我定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危機與轉機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微軟惹的禍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的優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與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Windows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大不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把握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的時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學習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Linux </a:t>
            </a:r>
            <a:r>
              <a:rPr b="0" lang="zh-TW" sz="2800" spc="-1" strike="noStrike">
                <a:solidFill>
                  <a:srgbClr val="eaeaea"/>
                </a:solidFill>
                <a:latin typeface="新細明體"/>
              </a:rPr>
              <a:t>的難點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必先利其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資訊系統的目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白貓黑貓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筷子與刀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新細明體"/>
              </a:rPr>
              <a:t>工若善其用、必先利其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自我定位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ort or End User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gineer or Manager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pth or Width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 How or Know What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Y or Out Source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ning or Paying 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危機與轉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經濟不景您能改變嗎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假如您是老闆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假如您是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Solution Provider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一個實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微軟惹的禍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微軟的貢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藏在界面的背後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專屬格式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.s.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專屬規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作業平台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.s.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應用程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小心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Bill Gate ﹗--- License 6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資訊命脈的意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的優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開放標準與強大功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更好的客制化與自主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更安全的應用方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更佳的人才資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降低長期成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與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Windows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大不同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(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基本上，是整合性與組合性的差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速度快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可靠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易操作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可塑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好上手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適用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便利性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擴充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Linux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與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Windows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大不同 </a:t>
            </a:r>
            <a:r>
              <a:rPr b="0" lang="zh-TW" sz="4400" spc="-1" strike="noStrike">
                <a:solidFill>
                  <a:srgbClr val="ffcc66"/>
                </a:solidFill>
                <a:latin typeface="新細明體"/>
              </a:rPr>
              <a:t>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更重要的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  <a:ea typeface="標楷體"/>
              </a:rPr>
              <a:t>就是封閉系統與開放系統的差異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專屬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通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一對多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多對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隱性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顯性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被動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vs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主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06:15:39Z</dcterms:created>
  <dc:creator>Kenny Chen</dc:creator>
  <dc:description/>
  <dc:language>en-US</dc:language>
  <cp:lastModifiedBy>User</cp:lastModifiedBy>
  <dcterms:modified xsi:type="dcterms:W3CDTF">2003-03-29T17:13:27Z</dcterms:modified>
  <cp:revision>80</cp:revision>
  <dc:subject/>
  <dc:title>都是微軟惹的禍？</dc:title>
</cp:coreProperties>
</file>