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69C-210D-487A-AE81-17E2DDD8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4AA-C624-4135-9EC3-687275A9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AD6-403A-49F5-B8BF-49F4C4D5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BB4-512C-4FF1-94C7-698C4F72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082F-2289-4C87-BD90-7361553B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8B88-FBB2-4403-8A91-8549F473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9E97-D3BC-4101-BAEE-6B5A7E6F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351D-466A-4421-B1A0-EB9E68E1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3219-5642-4D09-99F9-92892C7C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901F-09B3-463B-94AB-A272EC91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61D6-65FC-4CA8-A84B-E26A7ECF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8DE-0C2C-4195-9645-3DBD1CAC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CFB0-C178-4D1F-8CE5-F09146FD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4643-B0A4-47CA-AB12-B162E9A7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256D-3866-4426-AEA3-8ED156FD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947A-48F7-4A3F-9515-C15B14F5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279C-BD6A-44F7-A80D-779267AD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914-C0AE-40E6-8B65-F83F22A9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C35-81FE-429D-9851-79DBA13D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AC5-E782-4EB0-AAC9-EB9DF9F0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FDB-8F16-422C-AA83-85B3ED9A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F4A-8BF7-479D-B81C-97DB94E2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3F6-FB9A-4321-A8C6-17007E8A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63E-A5B1-47B7-BAD2-D1CB2AE0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9F53-257B-43EA-A840-90203C2F7340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7AAA-78EC-4B48-8EF2-6F3ECD9D3070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1752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cc66"/>
                </a:solidFill>
                <a:latin typeface="標楷體"/>
                <a:ea typeface="標楷體"/>
              </a:rPr>
              <a:t>Linux </a:t>
            </a:r>
            <a:r>
              <a:rPr b="0" lang="zh-TW" sz="6600" spc="-1" strike="noStrike">
                <a:solidFill>
                  <a:srgbClr val="ffcc66"/>
                </a:solidFill>
                <a:latin typeface="標楷體"/>
                <a:ea typeface="標楷體"/>
              </a:rPr>
              <a:t>學前輔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Kenny Ch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Courier New"/>
              </a:rPr>
              <a:t>netman@study-area.or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3657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學習金字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系統部件學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系統管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服務設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linux_study03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284800" cy="3238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4114800"/>
            <a:ext cx="3657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學習方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Top D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Bottom 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主力與苦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Window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與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的成長曲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門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成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期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Image4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506736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結論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開放必勝、封閉必敗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從歷史看未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英雄造時勢、時勢造英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工若善其用，必先利其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感謝大家﹗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5105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善用 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Linux﹐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可塑造出無限的空間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linux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127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主題大綱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我為何要學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優勢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學習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的難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學習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的方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把握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的時機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我為何要學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我學的是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NT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，工作也是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與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的初次接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我所看到的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及早轉換跑道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我從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上獲得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發揮與保持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優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391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開放標準與強大功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降低長期成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更好的客制化與自主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更安全的應用方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更佳的人才資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把握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時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391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誰是世界首富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十字路口的選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您的技術十年後還能用嗎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擺脫控制、掌握主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門檻就是保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此時不進更待何時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難點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1907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記憶曲線的特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時間的重要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信息量的影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記憶物件特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linux_study01" descr=""/>
          <p:cNvPicPr/>
          <p:nvPr/>
        </p:nvPicPr>
        <p:blipFill>
          <a:blip r:embed="rId1"/>
          <a:stretch/>
        </p:blipFill>
        <p:spPr>
          <a:xfrm>
            <a:off x="4191120" y="2314440"/>
            <a:ext cx="480060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難點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整合性與組合性的差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速度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可靠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操作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可塑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上手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適用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便利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擴充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難點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舊有包衭的阻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誤解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習慣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惰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職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利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391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打破記憶曲線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---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溫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認識組合性的優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建立正確的學習方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重新認識學習對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06:15:39Z</dcterms:created>
  <dc:creator>Kenny Chen</dc:creator>
  <dc:description/>
  <dc:language>en-US</dc:language>
  <cp:lastModifiedBy>User</cp:lastModifiedBy>
  <dcterms:modified xsi:type="dcterms:W3CDTF">2003-09-22T14:13:42Z</dcterms:modified>
  <cp:revision>79</cp:revision>
  <dc:subject/>
  <dc:title>Linux 學前輔導</dc:title>
</cp:coreProperties>
</file>