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9F0-5A71-41DD-8463-0718F1A0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A67-984E-4D9E-958A-68C63DD6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4D5-525C-4C01-A824-9B79842B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536-C84E-4E34-8F0B-7352FE65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10D0-0673-4C7F-9B7D-A73C9874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DC44-EB07-42EE-ADBB-2097622C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B965-226C-41D3-A0E9-C45FD03A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B112-F4D2-4A87-BC52-CC0DCE07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199C-FF26-4F10-B5B9-1CC4447E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DA6D-101F-422D-8D78-D6E6D589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D441-D9FA-4460-91E4-DB078430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013-7832-45DB-BDE8-DD74BE4D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9445-A38E-41A9-AE3E-F58E49A5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B203-E935-4AC9-90F9-FB253A8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8719-61FE-49CC-839B-5003B874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5C8A-23EE-4BB1-9D4C-6EF36EF7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AB1B-5077-43AB-BD1D-530168EB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AD1-3CD8-45D5-AB99-5FCE8AEB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C52-3B4F-40BB-8700-5F17DE0A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A51-1B62-4276-A5A6-EF0207A4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9F2-D028-48B0-BAC8-65C017DE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3AB-3B2B-44C3-AC0A-5D3915EB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EB2-95C1-47D8-BF5E-376CC65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96E-C335-4F49-B98D-69B7F76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9966-FDB4-4957-9394-0058ED4F5B94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AFF-C68C-47E6-A450-2DCD6F8B501F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9140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br>
              <a:rPr sz="4800"/>
            </a:br>
            <a:r>
              <a:rPr b="0" lang="zh-TW" sz="4800" spc="-1" strike="noStrike">
                <a:solidFill>
                  <a:srgbClr val="ffcc66"/>
                </a:solidFill>
                <a:latin typeface="標楷體"/>
                <a:ea typeface="標楷體"/>
              </a:rPr>
              <a:t>在企業網路中的應用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Kenny Ch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Courier New"/>
              </a:rPr>
              <a:t>Netman@study-area.or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多元系統與整合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20040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eaeaea"/>
                </a:solidFill>
                <a:uFillTx/>
                <a:latin typeface="Times New Roman"/>
                <a:ea typeface="標楷體"/>
              </a:rPr>
              <a:t>多元的選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Nov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Microsoft 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Linu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Macintos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其它專屬系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600200"/>
            <a:ext cx="3886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eaeaea"/>
                </a:solidFill>
                <a:uFillTx/>
                <a:latin typeface="Arial"/>
                <a:ea typeface="標楷體"/>
              </a:rPr>
              <a:t>共同的協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Conn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Ser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Datab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Data Encryp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541008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整合難度與協定支援度與成反比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移植性與開放度成正比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 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的特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391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Linux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是免費的﹐更是自由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架構開放﹐大量高手的參與和回報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承襲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Unix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的優良傳統﹐經獲考驗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精小而穩定的核心﹐更新迅速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廣受支援﹐各大廠商爭相支持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未來選擇﹐蘋果為鑒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在企業網路中的應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120" y="175248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桌上系統程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286000"/>
            <a:ext cx="3048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KDE/GN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Netscape/Mozil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StarOff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GI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Xfig/Kvis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XM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CDRoas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Quake II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在企業網路中的應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伺服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2514600"/>
            <a:ext cx="2362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網頁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代理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校時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傳真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影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251460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檔案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備份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日誌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列印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4724280"/>
            <a:ext cx="5639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與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Unix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整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與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Microsoft Network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整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與其它系統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/ Network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整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514600"/>
            <a:ext cx="2286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名稱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認證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郵件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新聞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的名稱服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DA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的認證服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passwd &amp; shadow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N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SAMB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SAS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LDA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SSL/SS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的檔案服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FT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NF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SAMB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CO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Netwa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Appletal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的列印服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P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P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MB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的郵件服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Sendmail/Postfis/Q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Fetch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Mail 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Web M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Virtual Mail Serv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Authen / Relay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Anti-SPAM / Anti-Vir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SS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的網頁服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Apache / Nuke / Zo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irtual Hos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CIG &amp; PHP + SQ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華康魏碑體"/>
                <a:ea typeface="華康魏碑體"/>
              </a:rPr>
              <a:t>主題大綱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網路之定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網路的功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企業網路的應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的特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在企業網路中的應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結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的傳真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/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語音服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mgetty + sendfa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Smbfa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Faxrout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Bor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O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Stream Ser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的備份服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tar + z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dump/resto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AMADA/BRU/Arke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rsyn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mirr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上的網路整合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T + Firewa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ad Balance/Shap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che / Tran-Prox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P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PP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NM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/Clus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TP/ NTP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Linux</a:t>
            </a: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的其他功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Syslo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RAIDS/N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Embed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結論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:</a:t>
            </a:r>
            <a:br>
              <a:rPr sz="4400"/>
            </a:br>
            <a:r>
              <a:rPr b="0" lang="zh-TW" sz="3200" spc="-1" strike="noStrike">
                <a:solidFill>
                  <a:srgbClr val="ffcc66"/>
                </a:solidFill>
                <a:latin typeface="Times New Roman"/>
              </a:rPr>
              <a:t>不僅是潮流﹐更是明智的選擇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Linux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可以降低成本﹐提高效率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由於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Unix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的延伸特性﹐標準﹑穩定﹑開放﹑而且支援度好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與各種平臺的整合性能良好﹐為企業提供更佳的整合方案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謝謝﹗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105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善用 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Linux﹐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可塑造出無限的空間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linux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12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網路之定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eaeaea"/>
                </a:solidFill>
                <a:uFillTx/>
                <a:latin typeface="標楷體"/>
                <a:ea typeface="標楷體"/>
              </a:rPr>
              <a:t>簡而言之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﹕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網路就是一群通過一定形式連接起來的電腦。</a:t>
            </a: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029200"/>
            <a:ext cx="655308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標楷體"/>
              </a:rPr>
              <a:t>最少兩台電腦即可組網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LAN / MAN / W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training11" descr=""/>
          <p:cNvPicPr/>
          <p:nvPr/>
        </p:nvPicPr>
        <p:blipFill>
          <a:blip r:embed="rId1"/>
          <a:stretch/>
        </p:blipFill>
        <p:spPr>
          <a:xfrm>
            <a:off x="1219320" y="2654280"/>
            <a:ext cx="7619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華康魏碑體"/>
              </a:rPr>
              <a:t>網路的功能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華康魏碑體"/>
              </a:rPr>
              <a:t>---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華康魏碑體"/>
              </a:rPr>
              <a:t>共享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0" y="1828440"/>
            <a:ext cx="236232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eaeaea"/>
                </a:solidFill>
                <a:uFillTx/>
                <a:latin typeface="標楷體"/>
                <a:ea typeface="標楷體"/>
              </a:rPr>
              <a:t>共享檔案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共享檔案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傳輸檔案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1828800"/>
            <a:ext cx="24382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eaeaea"/>
                </a:solidFill>
                <a:uFillTx/>
                <a:latin typeface="Times New Roman"/>
                <a:ea typeface="標楷體"/>
              </a:rPr>
              <a:t>共享應用程式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應用程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數據庫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游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886200"/>
            <a:ext cx="2743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eaeaea"/>
                </a:solidFill>
                <a:uFillTx/>
                <a:latin typeface="Times New Roman"/>
                <a:ea typeface="標楷體"/>
              </a:rPr>
              <a:t>共享週邊設備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印表機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光碟機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掃描器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傳真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/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數據機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磁帶機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8862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eaeaea"/>
                </a:solidFill>
                <a:uFillTx/>
                <a:latin typeface="Times New Roman"/>
                <a:ea typeface="標楷體"/>
              </a:rPr>
              <a:t>共享信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網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電子郵件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工作排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電子會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新聞群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標楷體"/>
                <a:ea typeface="標楷體"/>
              </a:rPr>
              <a:t>企業網路的應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2182680"/>
            <a:ext cx="647676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主從架構的運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主從架構下的多元化服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多元系統與整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系統與網路安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主從架構之特點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分工合作﹐角色合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服務完整﹐利用率高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分散處理﹐靈活性高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集中管理﹐容易控制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統一開發﹐成效顯益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存取認證﹐確保安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網路多元化服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eaeaea"/>
                </a:solidFill>
                <a:uFillTx/>
                <a:latin typeface="Times New Roman"/>
              </a:rPr>
              <a:t>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認證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郵件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程式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檔案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列印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傳真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/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語音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備份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校時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日誌服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1600200"/>
            <a:ext cx="3048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eaeaea"/>
                </a:solidFill>
                <a:uFillTx/>
                <a:latin typeface="Times New Roman"/>
              </a:rPr>
              <a:t>管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資料庫管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信息庫管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程式庫管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4343400"/>
            <a:ext cx="3048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eaeaea"/>
                </a:solidFill>
                <a:uFillTx/>
                <a:latin typeface="Times New Roman"/>
              </a:rPr>
              <a:t>建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信息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資源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多功能網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anet &amp; Extran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Image4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72676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系統與網路安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資料與資源的分配要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商業競爭的保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認證系統必要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數位簽章之應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資料加密的重要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防火牆的應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06:15:39Z</dcterms:created>
  <dc:creator>Kenny Chen</dc:creator>
  <dc:description/>
  <dc:language>en-US</dc:language>
  <cp:lastModifiedBy>User</cp:lastModifiedBy>
  <dcterms:modified xsi:type="dcterms:W3CDTF">2002-06-19T17:32:55Z</dcterms:modified>
  <cp:revision>54</cp:revision>
  <dc:subject/>
  <dc:title>Linux 在企業網路中的應用</dc:title>
</cp:coreProperties>
</file>