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ABB-BD3A-4293-8CEA-EF5B07BA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0BB-1370-4979-84D9-8BD7B015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8D6-EF25-4F6D-A3DA-6CF5C417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936-D73F-4117-AA7A-6ACF4B03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0022-374F-46BF-922F-9517D85A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B437-97BC-490D-87A0-E09028A1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EE82-AF10-4838-9695-271A9BF2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2FE9-3BDE-4A66-A763-DDE51348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2DE6-AEF7-4735-826A-E3A8AFF0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208A-38BE-45FB-8C33-ABA59BF4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6E43-683B-49DF-89B0-C6608BDE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125-0593-4A72-8C4E-315427FA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F3AD-95FC-4923-9C58-4B5DDB9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F6C4-43B5-4507-9D9F-66268CCE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7E44-D799-4F03-BE8B-23ED8392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C3EB-96C0-4B4F-942C-B9A67987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9BCA-60D7-4862-8D63-60CF6330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FD3-98DD-4D9F-A1A4-DD27F029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226-31EF-4EC6-A97B-B506AF80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6F6-C6A7-4836-9CC9-FFB7CF1B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8D1-6FA2-4642-945F-1DE2A219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62C-5B6C-41D3-98E3-C24C2877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595-F472-4993-8EAA-A412ED8F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E64-6D95-45E7-806E-4F8433E0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2C5B-4286-4C70-AAA7-3DA9B4847B13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5326-196C-48C2-8307-B38CFDC8C9C8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1752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cc66"/>
                </a:solidFill>
                <a:latin typeface="標楷體"/>
                <a:ea typeface="標楷體"/>
              </a:rPr>
              <a:t>Linux </a:t>
            </a:r>
            <a:r>
              <a:rPr b="0" lang="zh-TW" sz="6600" spc="-1" strike="noStrike">
                <a:solidFill>
                  <a:srgbClr val="ffcc66"/>
                </a:solidFill>
                <a:latin typeface="標楷體"/>
                <a:ea typeface="標楷體"/>
              </a:rPr>
              <a:t>學習態度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Kenny Ch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Courier New"/>
              </a:rPr>
              <a:t>netman@study-area.or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391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打破記憶曲線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---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溫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認識組合性的優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建立正確的學習方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重新認識學習對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657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學習金字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系統部件學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系統管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服務設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linux_study03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28480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19320" y="4114800"/>
            <a:ext cx="3657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學習方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Top D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Bottom 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主力與苦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結論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開放必勝、封閉必敗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從歷史看未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英雄造時勢、時勢造英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工若善其用，必先利其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感謝大家﹗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5105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善用 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Linux﹐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可塑造出無限的空間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linux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127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主題大綱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我為何要學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優勢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學習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的難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學習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的方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把握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的時機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我為何要學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我學的是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NT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，工作也是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與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的初次接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我所看到的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及早轉換跑道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我從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上獲得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發揮與保持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優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391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開放標準與強大功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降低長期成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更好的客制化與自主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更安全的應用方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更佳的人才資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把握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時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391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誰是世界首富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十字路口的選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您的技術十年後還能用嗎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擺脫控制、掌握主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門檻就是保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此時不進更待何時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難點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1907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記憶曲線的特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時間的重要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信息量的影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記憶物件特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linux_study01" descr=""/>
          <p:cNvPicPr/>
          <p:nvPr/>
        </p:nvPicPr>
        <p:blipFill>
          <a:blip r:embed="rId1"/>
          <a:stretch/>
        </p:blipFill>
        <p:spPr>
          <a:xfrm>
            <a:off x="4191120" y="2314440"/>
            <a:ext cx="480060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難點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整合性與組合性的差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速度快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可靠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易操作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可塑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好上手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適用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便利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擴充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難點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Window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與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的成長曲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門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成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期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Image4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506736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難點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舊有包衭的阻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誤解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習慣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惰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職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利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06:15:39Z</dcterms:created>
  <dc:creator>Kenny Chen</dc:creator>
  <dc:description/>
  <dc:language>en-US</dc:language>
  <cp:lastModifiedBy>User</cp:lastModifiedBy>
  <dcterms:modified xsi:type="dcterms:W3CDTF">2003-09-23T06:19:58Z</dcterms:modified>
  <cp:revision>77</cp:revision>
  <dc:subject/>
  <dc:title>學習 Linux 的難點與方法</dc:title>
</cp:coreProperties>
</file>